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6763-652B-4C5E-A118-EA364C0881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093-5F03-4DF7-B4CC-4D5E2A63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0F3-83C0-43FE-A921-7896BC8A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F7F-561F-43F2-8A39-F6C82A10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771-86E5-4B59-A0A1-6BDEFB27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AFBB-4037-47E8-A7D3-F5BE137B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F750-7480-4E5A-9D94-AFB81C7C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38BD-444E-4EF1-A1C5-BE74D1FA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C174-956B-42ED-8CDA-8512B2D9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12C1-7ABC-4A0D-959D-A700077C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1E12-8FA6-4CFB-843A-E6059726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72D6-47CB-4C4C-B8B3-F53F5054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626-5A5D-4239-9F0C-4B6BEA8D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49BE-13F1-4197-8E49-87D46DBC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72C3-A24D-4F56-A708-5F637FDE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BECF-B3EC-4F14-8CB3-965398A8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1B6C-EEDF-4DDE-BCDC-B6795CB5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49BB-D3E2-4AA9-B8D1-BA288290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A2B-E75E-4AEA-9443-45955C1B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8A9-0DAD-4BAE-BC5F-69425263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3C3-AC78-4C0B-AE7D-7D004524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4A0-C777-4C4A-BABB-16D487C6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C7A-6B2D-40E1-97A8-5B9ABE81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B2BE-360A-4D13-9776-5ADE2B43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4BE-FB23-4AB5-AB64-2CAA51AD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A7E9-BCC3-4707-865D-019BAE032A3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68C5-1B9A-4B8D-BA7D-FDC55AA93E4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Reproductive Syste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Fe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2057400" y="2209680"/>
          <a:ext cx="5334120" cy="35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5334120" cy="35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the female sex orga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slowly moves down towards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(womb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sperms are present in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e egg will be fertilised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leads to a muscula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vagina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at opens to the outside of the bod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maleunlabelled"/>
          <p:cNvPicPr/>
          <p:nvPr/>
        </p:nvPicPr>
        <p:blipFill>
          <a:blip r:embed="rId1"/>
          <a:stretch/>
        </p:blipFill>
        <p:spPr>
          <a:xfrm>
            <a:off x="1763640" y="836640"/>
            <a:ext cx="6696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female_reproductive_organs_front"/>
          <p:cNvPicPr/>
          <p:nvPr/>
        </p:nvPicPr>
        <p:blipFill>
          <a:blip r:embed="rId1"/>
          <a:srcRect l="18259" t="40659" r="12353" b="0"/>
          <a:stretch/>
        </p:blipFill>
        <p:spPr>
          <a:xfrm>
            <a:off x="1258920" y="0"/>
            <a:ext cx="67676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ncomfortable Word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4648320" y="1523880"/>
          <a:ext cx="396216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23880"/>
                    <a:ext cx="39621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test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inside a sac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dd a fluid which keeps the sperms a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Pen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peni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must be erect for the semen to pass ou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500 million sperm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0:49:23Z</dcterms:created>
  <dc:creator>IBM_User</dc:creator>
  <dc:description/>
  <dc:language>en-US</dc:language>
  <cp:lastModifiedBy>RomaK</cp:lastModifiedBy>
  <dcterms:modified xsi:type="dcterms:W3CDTF">2015-09-04T11:08:17Z</dcterms:modified>
  <cp:revision>8</cp:revision>
  <dc:subject/>
  <dc:title>Reproductive Systems</dc:title>
</cp:coreProperties>
</file>